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EB5-C075-4BB4-98D5-EE66AC0E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A66-BA6C-40FB-A05C-0AAFFF1C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F18-816E-43F9-BB7B-11581285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90D-7248-4D4B-8DAC-81F7341A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46BC-2F65-49BB-BF0C-42B2C956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C3B8-0E28-4979-8235-6903C93E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9F0D-D3D9-4CD3-B773-B8A48A09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D167-1CEC-40BB-809E-D8C35969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05D6-68A2-4C97-B1BC-AD33951D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03EE-00C9-4C79-8D51-BB9DECB8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B226-BEAD-4AC6-B299-BEE37D73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76B-442D-4F91-8165-6511B97C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58D0-53D5-453C-ACB2-E1ACBC8D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4328-984C-42AF-9596-6830B1DD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0424-3D67-4526-9DAF-A91D2438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5EC9-E9FD-4270-8710-CB27BF05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0A67-683A-4FBA-82DB-71494C1E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189-AB20-4651-BD74-A1ACA6A7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798-173B-49D1-8F5A-36CDDC69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E08-91FE-4DCC-B453-CEFED103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607-5431-42D4-A059-6A19EDF0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E03-C9BC-462C-B263-8F36327C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E72-1B36-41EC-8BD6-13D41407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3D9-B918-4737-A55C-5AEB00EC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2863-7253-4322-8EE5-5DD58B6E6EA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E86F-B87A-4736-80B9-18AAC2F6C4E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attleaquarium.org/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lantagenet Cherokee"/>
              </a:rPr>
              <a:t>Seattle Aquariu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lantagenet Cherokee"/>
              </a:rPr>
              <a:t>Inspiring Conservation of our Marine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5829480" cy="7543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0880" y="4114800"/>
            <a:ext cx="2667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lantagenet Cherokee"/>
              </a:rPr>
              <a:t>Allow your students to explore the marine life of the Puget Sound through a variety of exhib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181120"/>
            <a:ext cx="830592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lantagenet Cherokee"/>
              </a:rPr>
              <a:t>Several times each day, ask divers questions and hear their live answers from inside a 120,000 gallon tank containing over 800 species indigenous to the Puget S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6899400" cy="45957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876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lantagenet Cherokee"/>
              </a:rPr>
              <a:t>Get your hands wet by exploring the sea lif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Plantagenet Cherokee"/>
              </a:rPr>
              <a:t>Puget Sound tide p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5410080" cy="437184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409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lantagenet Cherokee"/>
              </a:rPr>
              <a:t>Get close enough to observe the fluid movements of jellyfish and Giant Pacific Octo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5486400" cy="36543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660920" y="0"/>
            <a:ext cx="44830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952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lantagenet Cherokee"/>
              </a:rPr>
              <a:t>Observe and come face-to-face with marine mamm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00200" y="380880"/>
            <a:ext cx="593892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181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lantagenet Cherokee"/>
              </a:rPr>
              <a:t>Learn about endangered species and discover ways that we can hel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696080" cy="4354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181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lantagenet Cherokee"/>
              </a:rPr>
              <a:t>Think like scientists as you examine marine life in new ways that fit with standard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29200" y="609480"/>
            <a:ext cx="393048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437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ntagenet Cherokee"/>
              </a:rPr>
              <a:t>Make the Seattle Aquarium a part of your science curricul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657600" cy="4343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tagenet Cherokee"/>
              </a:rPr>
              <a:t>Special educational programs are included with admission ($8/$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tagenet Cherokee"/>
              </a:rPr>
              <a:t>Scholarships are avail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tagenet Cherokee"/>
              </a:rPr>
              <a:t>Several supplemental materials are provided for free for outside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tagenet Cherokee"/>
              </a:rPr>
              <a:t>Teachers can explore free of charge during preview days and before field tr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tagenet Cherokee"/>
              </a:rPr>
              <a:t>Find more information online at </a:t>
            </a:r>
            <a:r>
              <a:rPr b="0" lang="en-US" sz="2100" spc="-1" strike="noStrike" u="sng">
                <a:solidFill>
                  <a:srgbClr val="ffcc00"/>
                </a:solidFill>
                <a:uFillTx/>
                <a:latin typeface="Plantagenet Cherokee"/>
                <a:hlinkClick r:id="rId2"/>
              </a:rPr>
              <a:t>www.seattleaquarium.org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038480" y="1981080"/>
            <a:ext cx="4876920" cy="36576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06:52:25Z</dcterms:created>
  <dc:creator>Rachel Jones</dc:creator>
  <dc:description/>
  <dc:language>en-US</dc:language>
  <cp:lastModifiedBy>Rachel Jones</cp:lastModifiedBy>
  <dcterms:modified xsi:type="dcterms:W3CDTF">2012-03-06T08:02:15Z</dcterms:modified>
  <cp:revision>1</cp:revision>
  <dc:subject/>
  <dc:title>Seattle Aquarium</dc:title>
</cp:coreProperties>
</file>